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ct" ContentType="image/x-pict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41C-5C56-4F6E-A6ED-BB66DDDF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404-77D3-4E5D-A038-A6C6D21A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41D-C8DC-46BA-95BA-79B16F55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BA2-F236-4374-AAC2-5CB55CC8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7CA9-EDA4-40C9-A1C3-515F6860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C52A-7A0A-4F4B-9138-45E372A6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98F-48EE-4D1C-90DE-9338337C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11D6-FB9B-4B45-8644-14775C53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4ACE-14A7-49FB-8E76-8E9B56D6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ACD0-DCA5-475C-945F-40E6602D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93BC-9699-4D9F-A477-555108D7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0CB-55EF-46A2-AFC0-13EBA4E8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018A-11F2-411E-A1FE-5D3BCE1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76CB-F2B3-49EB-9061-3AEE8F7F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6EEC-D9AB-4530-B890-AB9FA332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CFD7-9112-42E7-8F50-F0BC36EC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A7C1-D3B2-4975-8F4B-CB39BC5F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799-839B-47E1-ABC9-8E71155A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EDC-614C-4277-9EFC-BE114238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FA4-A3F5-4295-984B-E7C83339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83A-AC02-4D46-B0D7-D5930BBE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8B1-3244-48D3-9F41-A0AE7650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F47-3376-4CF7-92AB-08F15577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036-9605-428C-A032-890AA8EB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8C3C-F12A-423D-A5D9-FB67F9EBC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386-6EFC-4782-A2FB-6F052AAC0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rst Aid For Eye Inju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52680" y="3657600"/>
            <a:ext cx="2163960" cy="23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irst Aid for Eye Injuri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reign object in the eye can cause pain and irr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rub i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moving the Object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object is under the upper lid, pull the lid over a cotton sw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lush eye with clean water or salin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moving the Object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object Is under the lower lid, pull the lid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f you can’t remove the object…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 the eye with a loose, dry, clean bandage, and seek medical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05320" y="3200400"/>
            <a:ext cx="1806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wear eye protection when working with power tools or heavy equi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ing so can save you a lot of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07Z</dcterms:created>
  <dc:creator>Kraybill Campus LMS</dc:creator>
  <dc:description/>
  <dc:language>en-US</dc:language>
  <cp:lastModifiedBy>Kraybill Campus LMS</cp:lastModifiedBy>
  <dcterms:modified xsi:type="dcterms:W3CDTF">2011-05-23T12:53:16Z</dcterms:modified>
  <cp:revision>14</cp:revision>
  <dc:subject/>
  <dc:title>-[</dc:title>
</cp:coreProperties>
</file>